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8E5-02D6-4904-889B-0151F56F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8F6-D745-4642-B825-252024DD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4F7-E534-4ABF-9E7C-2B1C82E1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8E3-D201-4B76-B69A-71D85306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AB7A-D607-46FF-AAA0-F4395D31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ADB7-0ED8-44F3-9EF0-6540D93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85F1-4FA7-432C-A1A1-8E2F9E8F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96EB-B9D6-4502-B78B-66C17DF7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25B9-615C-4070-A88B-67340D1B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DB46-ADD9-4C6A-BD78-A003F69F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07B7-F1BF-4573-8B8D-242EE7D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F24-77CD-4FE5-95E4-4891369B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F1B0-6B2C-4E1A-83A1-6DABB6D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3B22-4935-4A47-9CA4-1FD86D03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8CB7-1B48-476F-A74C-272BDB87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C18E-B77E-465D-B45E-C3EC2573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A53A-9C6C-4DFA-820D-78D4A4B0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DB3-FD47-4598-9FD4-EB07DEB7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B1A-247D-4131-A3D8-22F82850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302-B67C-426B-8718-5A068C1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88D-53DF-46D6-BCAC-66CAA476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28D-04D2-412F-94C0-E9CB3E88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347-238E-4EF5-A622-FAAF8015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8C4-8353-45AF-BB5A-D32DCEB2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5803-5171-4057-A7CC-FA7CDE6C55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010280" y="61722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33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F9C9-3112-4043-95FC-C720F53108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Getting Started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ness doesn’t just happen, it requires moti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some of the greatest motivators in the wor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tivates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ometimes happens when many people all try to be great at the same 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Exploration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Nations Facing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Status of Affair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aly was wealthy and the fancy of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ing powers seek ways to gain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frastructure to create a trade empire made them more power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9920" y="4572000"/>
            <a:ext cx="27432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Search for Asian trade route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ces &amp; luxury goods in great demand form Asia &amp; East In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er routes: sea routes (Western Pass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 Linked people of different cultures &amp; ended European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8120" y="46292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Motives for Exploration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: Desire for new sources of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king trade with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s &amp; Muslims already controlled the 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: Spread Christian teac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ty was convert non-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Y: To fulfill Renaissance ideas of adventure, discovery &amp; personal achie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5614920"/>
            <a:ext cx="1523880" cy="124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352680" y="5375160"/>
            <a:ext cx="1981440" cy="1482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5108400"/>
            <a:ext cx="25909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Improved Technology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ED for long voy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-shaped sails (against or with the wind), ---Islamic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masts: Move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avels and galle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76960" y="3200400"/>
            <a:ext cx="286704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1817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Other innovation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rolabe – Helped determi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compass: Chinese directional tool (brought by the Silk Ro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407280" y="2971800"/>
            <a:ext cx="2736720" cy="38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133720" y="3630600"/>
            <a:ext cx="35049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4:39:54Z</dcterms:created>
  <dc:creator>School District</dc:creator>
  <dc:description/>
  <cp:keywords/>
  <dc:language>en-US</dc:language>
  <cp:lastModifiedBy>Technology Department</cp:lastModifiedBy>
  <dcterms:modified xsi:type="dcterms:W3CDTF">2007-02-22T18:07:12Z</dcterms:modified>
  <cp:revision>5</cp:revision>
  <dc:subject/>
  <dc:title>Expl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21033</vt:lpwstr>
  </property>
</Properties>
</file>